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42A-38A8-4387-8B5A-E7D3A2AF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791-6B8A-4667-8830-F23F5D7A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993-CEC3-4CEA-8FF7-E39A71A4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9DA-C088-4C8A-A584-DB3563C4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F81-FDDD-4C70-8792-8AD31F7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9A1-127B-40F3-9118-FBBD3812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ED9-DD8E-4A47-A2FF-0B786670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B77-2E3D-4850-8E3F-DBBE0B58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E95-EA7E-4573-8589-FF5960D1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137-2F9D-46E5-8BF7-1370A30D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FE4-975A-4C76-8960-8B0D636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959-F8A4-4F2E-8F39-9095F1E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00DA-51C8-4D4C-A247-67BFDA077A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Picture 4" descr="prism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ues incluso el Universo se dice fue ensamblado con una cierta armonía de sonidos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Contraposición entre Naturaleza y Mecánica define profundamente qué tipo de música se puede hac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afinación DEBÍA estar regida por las leyes naturales (afinación Pitagórica, Justa, et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hora, el hombre tiene dominio sobre la naturaleza (permite la afinación Temperad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batalla duró tan sólo 2000 años, desde Pitágoras a Ba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680" y="57168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RELIGIÓN VS LA CI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po de Batalla de la Af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bio de V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anto con la imposición de panteones patriarcales, como con las filosofías similares a las de Pitágoras, cada vez más iban perdiendo su carácter de sagrado la naturaleza, y se va pavimentando el camino para la Reforma Protestante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, inspiró la creación de la Royal Society of Lond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" name="Picture 4" descr="Royal Society gresham"/>
          <p:cNvPicPr/>
          <p:nvPr/>
        </p:nvPicPr>
        <p:blipFill>
          <a:blip r:embed="rId1"/>
          <a:stretch/>
        </p:blipFill>
        <p:spPr>
          <a:xfrm>
            <a:off x="928800" y="4714920"/>
            <a:ext cx="3182760" cy="200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rancis bacon"/>
          <p:cNvPicPr/>
          <p:nvPr/>
        </p:nvPicPr>
        <p:blipFill>
          <a:blip r:embed="rId2"/>
          <a:stretch/>
        </p:blipFill>
        <p:spPr>
          <a:xfrm>
            <a:off x="7072200" y="214200"/>
            <a:ext cx="1625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jkepler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kepler solids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kepler solar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2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5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02:30:28Z</dcterms:modified>
  <cp:revision>29</cp:revision>
  <dc:subject/>
  <dc:title>Taller de Ciencias en la Música </dc:title>
</cp:coreProperties>
</file>